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png" ContentType="image/png"/>
  <Override PartName="/ppt/media/image1.png" ContentType="image/pn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EC3-92E6-4A6D-BBF0-6EDEE5D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527-3386-4869-8E8C-AE47F13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39A-14A5-4634-AA77-B9453E5A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D1F-E24D-41B1-ADD0-5FBDA7C4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59D-3D6F-42D3-A3EE-1D953F5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95C-1757-41F3-B655-8165EB7E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8AA-55AE-453F-A8AB-66D03EC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7B7-B97E-48A1-9940-F6EAB0C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6BB-E7D0-4D82-94CE-186BC5B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BF7-EE9B-4B54-B6A0-16AECFE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411-1C64-429C-AB84-411983E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921-EF5C-4367-927C-EEACC447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76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52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B43E-7ECE-4A14-AA1D-6153697C8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iia-logo" descr=""/>
          <p:cNvPicPr/>
          <p:nvPr/>
        </p:nvPicPr>
        <p:blipFill>
          <a:blip r:embed="rId2"/>
          <a:stretch/>
        </p:blipFill>
        <p:spPr>
          <a:xfrm>
            <a:off x="5477040" y="6253200"/>
            <a:ext cx="542880" cy="523800"/>
          </a:xfrm>
          <a:prstGeom prst="rect">
            <a:avLst/>
          </a:prstGeom>
          <a:ln w="0">
            <a:noFill/>
          </a:ln>
        </p:spPr>
      </p:pic>
      <p:pic>
        <p:nvPicPr>
          <p:cNvPr id="6" name="kmi-logo" descr=""/>
          <p:cNvPicPr/>
          <p:nvPr/>
        </p:nvPicPr>
        <p:blipFill>
          <a:blip r:embed="rId3"/>
          <a:stretch/>
        </p:blipFill>
        <p:spPr>
          <a:xfrm>
            <a:off x="2514600" y="6248520"/>
            <a:ext cx="838080" cy="511200"/>
          </a:xfrm>
          <a:prstGeom prst="rect">
            <a:avLst/>
          </a:prstGeom>
          <a:ln w="0">
            <a:noFill/>
          </a:ln>
        </p:spPr>
      </p:pic>
      <p:pic>
        <p:nvPicPr>
          <p:cNvPr id="7" name="ico_uni" descr=""/>
          <p:cNvPicPr/>
          <p:nvPr/>
        </p:nvPicPr>
        <p:blipFill>
          <a:blip r:embed="rId4"/>
          <a:stretch/>
        </p:blipFill>
        <p:spPr>
          <a:xfrm>
            <a:off x="8077320" y="6238800"/>
            <a:ext cx="990360" cy="55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5800" y="609588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uvalogo" descr=""/>
          <p:cNvPicPr/>
          <p:nvPr/>
        </p:nvPicPr>
        <p:blipFill>
          <a:blip r:embed="rId5"/>
          <a:stretch/>
        </p:blipFill>
        <p:spPr>
          <a:xfrm>
            <a:off x="1295280" y="6248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" name="ibrow-sml" descr=""/>
          <p:cNvPicPr/>
          <p:nvPr/>
        </p:nvPicPr>
        <p:blipFill>
          <a:blip r:embed="rId6"/>
          <a:stretch/>
        </p:blipFill>
        <p:spPr>
          <a:xfrm>
            <a:off x="0" y="0"/>
            <a:ext cx="1531800" cy="878040"/>
          </a:xfrm>
          <a:prstGeom prst="rect">
            <a:avLst/>
          </a:prstGeom>
          <a:ln w="0">
            <a:noFill/>
          </a:ln>
        </p:spPr>
      </p:pic>
      <p:pic>
        <p:nvPicPr>
          <p:cNvPr id="11" name="ibrow-sml" descr=""/>
          <p:cNvPicPr/>
          <p:nvPr/>
        </p:nvPicPr>
        <p:blipFill>
          <a:blip r:embed="rId7"/>
          <a:stretch/>
        </p:blipFill>
        <p:spPr>
          <a:xfrm>
            <a:off x="7612200" y="0"/>
            <a:ext cx="1531800" cy="878040"/>
          </a:xfrm>
          <a:prstGeom prst="rect">
            <a:avLst/>
          </a:prstGeom>
          <a:ln w="0">
            <a:noFill/>
          </a:ln>
        </p:spPr>
      </p:pic>
      <p:pic>
        <p:nvPicPr>
          <p:cNvPr id="12" name="vu" descr=""/>
          <p:cNvPicPr/>
          <p:nvPr/>
        </p:nvPicPr>
        <p:blipFill>
          <a:blip r:embed="rId8"/>
          <a:stretch/>
        </p:blipFill>
        <p:spPr>
          <a:xfrm>
            <a:off x="3886200" y="6216480"/>
            <a:ext cx="990720" cy="597240"/>
          </a:xfrm>
          <a:prstGeom prst="rect">
            <a:avLst/>
          </a:prstGeom>
          <a:ln w="0">
            <a:noFill/>
          </a:ln>
        </p:spPr>
      </p:pic>
      <p:pic>
        <p:nvPicPr>
          <p:cNvPr id="13" name="isoco" descr=""/>
          <p:cNvPicPr/>
          <p:nvPr/>
        </p:nvPicPr>
        <p:blipFill>
          <a:blip r:embed="rId9"/>
          <a:stretch/>
        </p:blipFill>
        <p:spPr>
          <a:xfrm>
            <a:off x="76320" y="6095880"/>
            <a:ext cx="565200" cy="685800"/>
          </a:xfrm>
          <a:prstGeom prst="rect">
            <a:avLst/>
          </a:prstGeom>
          <a:ln w="0">
            <a:noFill/>
          </a:ln>
        </p:spPr>
      </p:pic>
      <p:pic>
        <p:nvPicPr>
          <p:cNvPr id="14" name="stanford" descr=""/>
          <p:cNvPicPr/>
          <p:nvPr/>
        </p:nvPicPr>
        <p:blipFill>
          <a:blip r:embed="rId10"/>
          <a:stretch/>
        </p:blipFill>
        <p:spPr>
          <a:xfrm>
            <a:off x="6781680" y="62103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685800" y="182880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3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BR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Benjam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, University of Ams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yntax of markup: RDF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28680"/>
            <a:ext cx="7696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Description ID="#instance_00011"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ource="http://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rdf#Formula"/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rmula&gt;single_solution(solution) /\ (forall s:class in(s,solution) /\ complete(s,observations)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formul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10120"/>
            <a:ext cx="7543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Description ID="#instance_0001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type resource="http:// 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rdf#Formula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rmula&gt;single_solution(solution) /\ (forall s:class in(s,solution) /\ complete(s,observations))&lt;/formul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1F3-4F4B-49B5-A5BE-81815903A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18B-0D64-498B-978A-5BACFD762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up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processab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se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tion/matching/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aptation and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B8F-F762-4A48-A293-E4DFCF2C1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asoning requir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he task of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ask (much expert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elevant PSs for (sub)task goals and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applicability of PSs in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and Integrate (3D-frame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--PS and KB--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mapping by ada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61B-A77D-446D-9A1E-C0969F407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ntologies are ke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581280"/>
            <a:ext cx="1371600" cy="609840"/>
            <a:chOff x="914400" y="3581280"/>
            <a:chExt cx="1371600" cy="609840"/>
          </a:xfrm>
        </p:grpSpPr>
        <p:sp>
          <p:nvSpPr>
            <p:cNvPr id="117" name=""/>
            <p:cNvSpPr/>
            <p:nvPr/>
          </p:nvSpPr>
          <p:spPr>
            <a:xfrm>
              <a:off x="914400" y="3581280"/>
              <a:ext cx="13716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360" y="3622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en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238880" y="3886200"/>
            <a:ext cx="13716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820600" y="4876920"/>
            <a:ext cx="927000" cy="1066680"/>
            <a:chOff x="2820600" y="4876920"/>
            <a:chExt cx="927000" cy="1066680"/>
          </a:xfrm>
        </p:grpSpPr>
        <p:sp>
          <p:nvSpPr>
            <p:cNvPr id="121" name=""/>
            <p:cNvSpPr/>
            <p:nvPr/>
          </p:nvSpPr>
          <p:spPr>
            <a:xfrm>
              <a:off x="2833560" y="4876920"/>
              <a:ext cx="91404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20600" y="5045040"/>
              <a:ext cx="92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p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985200" y="4648320"/>
            <a:ext cx="11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9600" y="3124080"/>
            <a:ext cx="91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-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1880" y="2743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124080"/>
            <a:ext cx="1067040" cy="1143000"/>
          </a:xfrm>
          <a:custGeom>
            <a:avLst/>
            <a:gdLst>
              <a:gd name="textAreaLeft" fmla="*/ 125640 w 1067040"/>
              <a:gd name="textAreaRight" fmla="*/ 941400 w 1067040"/>
              <a:gd name="textAreaTop" fmla="*/ 125640 h 1143000"/>
              <a:gd name="textAreaBottom" fmla="*/ 10173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0" swAng="5400000"/>
                <a:lnTo>
                  <a:pt x="0" y="19537"/>
                </a:lnTo>
                <a:arcTo wR="3600" hR="3600" stAng="16200000" swAng="5400000"/>
                <a:lnTo>
                  <a:pt x="18000" y="2313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4648320"/>
            <a:ext cx="1371600" cy="1295280"/>
          </a:xfrm>
          <a:custGeom>
            <a:avLst/>
            <a:gdLst>
              <a:gd name="textAreaLeft" fmla="*/ 152640 w 1371600"/>
              <a:gd name="textAreaRight" fmla="*/ 1218960 w 137160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228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272" y="21600"/>
                </a:lnTo>
                <a:arcTo wR="3600" hR="3600" stAng="10800000" swAng="5400000"/>
                <a:lnTo>
                  <a:pt x="22872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867280" y="3429000"/>
            <a:ext cx="1371600" cy="1218960"/>
            <a:chOff x="5867280" y="3429000"/>
            <a:chExt cx="1371600" cy="1218960"/>
          </a:xfrm>
        </p:grpSpPr>
        <p:sp>
          <p:nvSpPr>
            <p:cNvPr id="129" name=""/>
            <p:cNvSpPr/>
            <p:nvPr/>
          </p:nvSpPr>
          <p:spPr>
            <a:xfrm>
              <a:off x="5964840" y="3522600"/>
              <a:ext cx="1243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_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3429000"/>
              <a:ext cx="1371600" cy="1218960"/>
            </a:xfrm>
            <a:custGeom>
              <a:avLst/>
              <a:gdLst>
                <a:gd name="textAreaLeft" fmla="*/ 143640 w 1371600"/>
                <a:gd name="textAreaRight" fmla="*/ 1227960 w 1371600"/>
                <a:gd name="textAreaTop" fmla="*/ 143640 h 1218960"/>
                <a:gd name="textAreaBottom" fmla="*/ 1075320 h 1218960"/>
              </a:gdLst>
              <a:ahLst/>
              <a:rect l="textAreaLeft" t="textAreaTop" r="textAreaRight" b="textAreaBottom"/>
              <a:pathLst>
                <a:path w="243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704" y="21600"/>
                  </a:lnTo>
                  <a:arcTo wR="3600" hR="3600" stAng="10800000" swAng="5400000"/>
                  <a:lnTo>
                    <a:pt x="24304" y="3600"/>
                  </a:lnTo>
                  <a:arcTo wR="3600" hR="3600" stAng="5400000" swAng="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343400" y="2743200"/>
            <a:ext cx="685800" cy="457200"/>
          </a:xfrm>
          <a:custGeom>
            <a:avLst/>
            <a:gdLst>
              <a:gd name="textAreaLeft" fmla="*/ 53640 w 685800"/>
              <a:gd name="textAreaRight" fmla="*/ 632160 w 685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323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792" y="21600"/>
                </a:lnTo>
                <a:arcTo wR="3600" hR="3600" stAng="10800000" swAng="5400000"/>
                <a:lnTo>
                  <a:pt x="32392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200040" y="29718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895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3A-7BA2-4A68-BF4B-5F72A1309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evant problem solver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-based extended with 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-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betwee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3A8-7D8A-462A-BC66-89E4CADE3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for combining heterogeneou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ere ontologies play a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differen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DFE-D231-460E-B3CE-E728B02942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chitecture 1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9" name="ib-whole-pict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11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A52-E597-4D93-A830-F475772DE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chitecture 2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514600"/>
            <a:ext cx="236232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5480" y="2743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20968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350532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487692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5400000">
            <a:off x="7526160" y="3671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819520"/>
            <a:ext cx="2819520" cy="2438280"/>
          </a:xfrm>
          <a:prstGeom prst="hexagon">
            <a:avLst>
              <a:gd name="adj" fmla="val 2890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e01686_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8920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3384720" y="4648320"/>
            <a:ext cx="73476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E01661A" descr=""/>
          <p:cNvPicPr/>
          <p:nvPr/>
        </p:nvPicPr>
        <p:blipFill>
          <a:blip r:embed="rId3"/>
          <a:stretch/>
        </p:blipFill>
        <p:spPr>
          <a:xfrm>
            <a:off x="5562720" y="3505320"/>
            <a:ext cx="101736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e01561_" descr=""/>
          <p:cNvPicPr/>
          <p:nvPr/>
        </p:nvPicPr>
        <p:blipFill>
          <a:blip r:embed="rId4"/>
          <a:stretch/>
        </p:blipFill>
        <p:spPr>
          <a:xfrm>
            <a:off x="376200" y="3276720"/>
            <a:ext cx="2138400" cy="1419120"/>
          </a:xfrm>
          <a:prstGeom prst="rect">
            <a:avLst/>
          </a:prstGeom>
          <a:ln w="0">
            <a:noFill/>
          </a:ln>
        </p:spPr>
      </p:pic>
      <p:pic>
        <p:nvPicPr>
          <p:cNvPr id="152" name="pe01682_" descr=""/>
          <p:cNvPicPr/>
          <p:nvPr/>
        </p:nvPicPr>
        <p:blipFill>
          <a:blip r:embed="rId5"/>
          <a:stretch/>
        </p:blipFill>
        <p:spPr>
          <a:xfrm>
            <a:off x="4724280" y="2286000"/>
            <a:ext cx="1067040" cy="1042920"/>
          </a:xfrm>
          <a:prstGeom prst="rect">
            <a:avLst/>
          </a:prstGeom>
          <a:ln w="0">
            <a:noFill/>
          </a:ln>
        </p:spPr>
      </p:pic>
      <p:pic>
        <p:nvPicPr>
          <p:cNvPr id="153" name="PE01803A" descr=""/>
          <p:cNvPicPr/>
          <p:nvPr/>
        </p:nvPicPr>
        <p:blipFill>
          <a:blip r:embed="rId6"/>
          <a:stretch/>
        </p:blipFill>
        <p:spPr>
          <a:xfrm>
            <a:off x="4724280" y="4648320"/>
            <a:ext cx="10512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e02097_" descr=""/>
          <p:cNvPicPr/>
          <p:nvPr/>
        </p:nvPicPr>
        <p:blipFill>
          <a:blip r:embed="rId7"/>
          <a:stretch/>
        </p:blipFill>
        <p:spPr>
          <a:xfrm>
            <a:off x="7086600" y="3505320"/>
            <a:ext cx="946080" cy="1139760"/>
          </a:xfrm>
          <a:prstGeom prst="rect">
            <a:avLst/>
          </a:prstGeom>
          <a:ln w="0">
            <a:noFill/>
          </a:ln>
        </p:spPr>
      </p:pic>
      <p:pic>
        <p:nvPicPr>
          <p:cNvPr id="155" name="pe01846_" descr=""/>
          <p:cNvPicPr/>
          <p:nvPr/>
        </p:nvPicPr>
        <p:blipFill>
          <a:blip r:embed="rId8"/>
          <a:stretch/>
        </p:blipFill>
        <p:spPr>
          <a:xfrm>
            <a:off x="6858000" y="5105520"/>
            <a:ext cx="1452600" cy="637920"/>
          </a:xfrm>
          <a:prstGeom prst="rect">
            <a:avLst/>
          </a:prstGeom>
          <a:ln w="0">
            <a:noFill/>
          </a:ln>
        </p:spPr>
      </p:pic>
      <p:pic>
        <p:nvPicPr>
          <p:cNvPr id="156" name="bd06982_" descr=""/>
          <p:cNvPicPr/>
          <p:nvPr/>
        </p:nvPicPr>
        <p:blipFill>
          <a:blip r:embed="rId9"/>
          <a:stretch/>
        </p:blipFill>
        <p:spPr>
          <a:xfrm>
            <a:off x="6862680" y="2286000"/>
            <a:ext cx="1519200" cy="731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0200" y="38098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47F-B5F6-437A-A121-DF324BAF4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PML - DAM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roblem solvers becom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A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fi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3F6-9256-4493-9482-F921FF585B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mantics for the Web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bout the languag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he u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d it, what would that enable us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for 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fo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A80-25EB-4402-99E4-BC702A4EB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s and refiners (the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A09-F5D6-4633-A56C-225864BAE2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demo-brok-task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10400" cy="39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821-1065-40DD-BDD2-91408E2FF9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HH01499A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114300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14940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43000" y="3048120"/>
            <a:ext cx="1417680" cy="1773000"/>
            <a:chOff x="1143000" y="3048120"/>
            <a:chExt cx="1417680" cy="1773000"/>
          </a:xfrm>
        </p:grpSpPr>
        <p:pic>
          <p:nvPicPr>
            <p:cNvPr id="60" name="bd06152_" descr=""/>
            <p:cNvPicPr/>
            <p:nvPr/>
          </p:nvPicPr>
          <p:blipFill>
            <a:blip r:embed="rId3"/>
            <a:stretch/>
          </p:blipFill>
          <p:spPr>
            <a:xfrm>
              <a:off x="1143000" y="3048120"/>
              <a:ext cx="1346040" cy="17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B01507_" descr=""/>
            <p:cNvPicPr/>
            <p:nvPr/>
          </p:nvPicPr>
          <p:blipFill>
            <a:blip r:embed="rId4"/>
            <a:stretch/>
          </p:blipFill>
          <p:spPr>
            <a:xfrm>
              <a:off x="2057400" y="3048120"/>
              <a:ext cx="50328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na01441_" descr=""/>
          <p:cNvPicPr/>
          <p:nvPr/>
        </p:nvPicPr>
        <p:blipFill>
          <a:blip r:embed="rId5"/>
          <a:stretch/>
        </p:blipFill>
        <p:spPr>
          <a:xfrm>
            <a:off x="5867280" y="23623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6"/>
          <a:stretch/>
        </p:blipFill>
        <p:spPr>
          <a:xfrm>
            <a:off x="7162920" y="40384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7"/>
          <a:stretch/>
        </p:blipFill>
        <p:spPr>
          <a:xfrm>
            <a:off x="7162920" y="21337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mp00640_" descr=""/>
          <p:cNvPicPr/>
          <p:nvPr/>
        </p:nvPicPr>
        <p:blipFill>
          <a:blip r:embed="rId8"/>
          <a:stretch/>
        </p:blipFill>
        <p:spPr>
          <a:xfrm>
            <a:off x="3200400" y="1905120"/>
            <a:ext cx="212256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WB01507_" descr=""/>
          <p:cNvPicPr/>
          <p:nvPr/>
        </p:nvPicPr>
        <p:blipFill>
          <a:blip r:embed="rId9"/>
          <a:stretch/>
        </p:blipFill>
        <p:spPr>
          <a:xfrm>
            <a:off x="8229600" y="274320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67" name="WB01507_" descr=""/>
          <p:cNvPicPr/>
          <p:nvPr/>
        </p:nvPicPr>
        <p:blipFill>
          <a:blip r:embed="rId10"/>
          <a:stretch/>
        </p:blipFill>
        <p:spPr>
          <a:xfrm>
            <a:off x="8077320" y="42670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68" name="WB01507_" descr=""/>
          <p:cNvPicPr/>
          <p:nvPr/>
        </p:nvPicPr>
        <p:blipFill>
          <a:blip r:embed="rId11"/>
          <a:stretch/>
        </p:blipFill>
        <p:spPr>
          <a:xfrm>
            <a:off x="6705720" y="3048120"/>
            <a:ext cx="503280" cy="47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AB5-4117-49D5-9BA6-AAFCF097E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apted from Jim’s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133720"/>
            <a:ext cx="41148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038480"/>
            <a:ext cx="6629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952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952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952880"/>
            <a:ext cx="12193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4952880"/>
            <a:ext cx="12193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972120" y="521892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2760" y="50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0840" y="50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2160" y="5029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8000" y="5029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4000" y="504504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1360" y="50292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67920" y="4191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800" y="2209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9280" y="22510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= generate +pr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920" y="3124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7200" y="3165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880" y="316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560" y="298764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00040" y="2895480"/>
            <a:ext cx="30492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95480"/>
            <a:ext cx="2286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2895480"/>
            <a:ext cx="15228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B00-92A6-41C3-9D26-F3EA5913AD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ctives of IBR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soning services on the web for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ird pa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ug &amp; 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roblem solvers and knowledg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58E-118E-41FD-8C75-86DC2D56D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novative aspec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eb brokers hand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crawler, Ariadne, Onto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s possibility for a new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lectronic marke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-away / Ad-ho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748-ED54-4BA4-BF9E-D1225C3D6B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rk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processab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se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tion/matching/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DAD-210C-4206-8F47-18FD0762B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rking up: UPM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bilities of problem solvers,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 of problem solvers, tasks and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gmatics (non func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ly used i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2CB-6890-4456-AF0A-4F64268DA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tent of marku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pr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9120" y="2755800"/>
            <a:ext cx="465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c:classes  single_solution(c) &lt;-&gt; cardinality(c)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9280" y="3244680"/>
            <a:ext cx="72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c:class, fs:features complete(c,f) &lt;-&gt; (forall f:feature in(f,fs) /\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true(c) -&gt; true(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9120" y="4495680"/>
            <a:ext cx="47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x:class in(x,output) -&gt; in(x, input) /\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forall p:property in(p,properties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&gt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has_property(x,p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D5A-247C-426F-A7AB-2D95FBDCB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2:42:34Z</dcterms:created>
  <dc:creator>Richard Benjamins</dc:creator>
  <dc:description/>
  <dc:language>en-US</dc:language>
  <cp:lastModifiedBy>Richard Benjamins</cp:lastModifiedBy>
  <cp:lastPrinted>1998-12-08T13:39:42Z</cp:lastPrinted>
  <dcterms:modified xsi:type="dcterms:W3CDTF">2000-03-22T20:23:44Z</dcterms:modified>
  <cp:revision>176</cp:revision>
  <dc:subject/>
  <dc:title>IBR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swi.psy.uva.nl/projects/IBROW3/home.html</vt:lpwstr>
  </property>
  <property fmtid="{D5CDD505-2E9C-101B-9397-08002B2CF9AE}" pid="9" name="LinkColor">
    <vt:r8>16711782</vt:r8>
  </property>
  <property fmtid="{D5CDD505-2E9C-101B-9397-08002B2CF9AE}" pid="10" name="MailAddress">
    <vt:lpwstr>richard@swi.psy.uva.nl</vt:lpwstr>
  </property>
  <property fmtid="{D5CDD505-2E9C-101B-9397-08002B2CF9AE}" pid="11" name="NavBtnPos">
    <vt:r8>3</vt:r8>
  </property>
  <property fmtid="{D5CDD505-2E9C-101B-9397-08002B2CF9AE}" pid="12" name="Other">
    <vt:lpwstr>Introduction IBROW
</vt:lpwstr>
  </property>
  <property fmtid="{D5CDD505-2E9C-101B-9397-08002B2CF9AE}" pid="13" name="OutputDir">
    <vt:lpwstr>H:\links\ibrow-gollem\presentation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